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wmf" ContentType="image/x-wmf"/>
  <Override PartName="/ppt/media/image27.wmf" ContentType="image/x-wmf"/>
  <Override PartName="/ppt/media/image26.wmf" ContentType="image/x-wmf"/>
  <Override PartName="/ppt/media/image22.wmf" ContentType="image/x-wmf"/>
  <Override PartName="/ppt/media/image19.png" ContentType="image/png"/>
  <Override PartName="/ppt/media/image20.jpeg" ContentType="image/jpeg"/>
  <Override PartName="/ppt/media/image21.png" ContentType="image/png"/>
  <Override PartName="/ppt/media/image6.jpeg" ContentType="image/jpeg"/>
  <Override PartName="/ppt/media/image5.wmf" ContentType="image/x-wmf"/>
  <Override PartName="/ppt/media/image7.wmf" ContentType="image/x-wmf"/>
  <Override PartName="/ppt/media/image12.wmf" ContentType="image/x-wmf"/>
  <Override PartName="/ppt/media/image9.jpeg" ContentType="image/jpeg"/>
  <Override PartName="/ppt/media/image11.wmf" ContentType="image/x-wmf"/>
  <Override PartName="/ppt/media/image17.jpeg" ContentType="image/jpeg"/>
  <Override PartName="/ppt/media/image13.wmf" ContentType="image/x-wmf"/>
  <Override PartName="/ppt/media/image8.jpeg" ContentType="image/jpeg"/>
  <Override PartName="/ppt/media/image31.jpeg" ContentType="image/jpeg"/>
  <Override PartName="/ppt/media/image4.jpeg" ContentType="image/jpeg"/>
  <Override PartName="/ppt/media/image32.png" ContentType="image/png"/>
  <Override PartName="/ppt/media/image1.jpeg" ContentType="image/jpeg"/>
  <Override PartName="/ppt/media/image15.wmf" ContentType="image/x-wmf"/>
  <Override PartName="/ppt/media/image33.png" ContentType="image/png"/>
  <Override PartName="/ppt/media/image16.wmf" ContentType="image/x-wmf"/>
  <Override PartName="/ppt/media/image34.png" ContentType="image/png"/>
  <Override PartName="/ppt/media/image35.png" ContentType="image/png"/>
  <Override PartName="/ppt/media/image28.wmf" ContentType="image/x-wmf"/>
  <Override PartName="/ppt/media/image30.png" ContentType="image/png"/>
  <Override PartName="/ppt/media/image3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25.wmf" ContentType="image/x-wmf"/>
  <Override PartName="/ppt/media/image10.jpeg" ContentType="image/jpeg"/>
  <Override PartName="/ppt/media/image14.png" ContentType="image/png"/>
  <Override PartName="/ppt/media/image18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0E2A3-2FBD-43CA-AF34-09DB89941E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83434-03CB-44A7-8A45-CFBCA6405B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0C6E5-07BE-4307-816F-D72A413066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DF9F8-740A-4328-A41D-F788335523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CE2BC-5C91-4B28-AD3D-E636CAF960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70B42-2FC5-4C8E-BB18-0DD308AD4B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13C36-5FAE-44D7-A6F4-4671078CD7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20E91-A621-4BAD-86FB-F9FC321A81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E2C73-D8BF-466A-941D-22BE24ECA2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4565E-8EAB-46DD-86D4-37A38187CF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7C96C-AD2A-482F-A955-64492AD437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E9CAD-7BC0-414D-9938-F8C544ED6D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2D914-8FCA-446F-871C-65C2F1E6BA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DB467-DD20-4AE8-A8FB-A4FC64C12D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2E465-CE4E-4ED7-8867-48273EC783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52E37-9E82-4271-BFE4-A9160A4235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E81F6-89EB-4428-8AC6-5B96A85ADD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28087-D282-4576-8368-FE897466EE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4BFDE-B7ED-4419-AE82-BAB92E48B4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838EB-9C7F-4CEE-98E7-0646DFD869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267874-3412-40AB-8F48-5B0CCC0868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9BDD05-7817-4402-8FDF-6F83F2C59E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4E2FDF-772F-4090-9DBE-58310F25AF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882721-96D5-436A-B297-98E71EFA53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5642-08FC-4914-9CB6-49F359F9946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F5CF-B4B9-4E77-B1D4-66055B06E68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792A-40AE-4678-B67C-92E0A9F8517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CED8-200B-4E86-9011-189F19D3926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CC1C-D478-47FE-AA26-F41C54E149C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C036-679F-42E1-924F-F8D3A61AF72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6080-335C-42A1-B796-E72C266EF36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FACA59-9D7F-44F5-9D18-BC1B6FEC9D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44BD-0007-4894-90C3-DEF5EDB4ECF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7EEA-A106-48FB-98B7-21E6DB76804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AFF4-3DD1-49DF-A5F9-D2B04B9EDD7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3DBC-4BF1-459D-A9C6-12164CCC0A9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CA96-7624-4064-AB84-77AC6644149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7665CB-2044-40AB-8B76-9B826CD491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85C957-732B-4975-8A26-2AF71D7877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9F84C4-0D59-4504-ACAA-5756446BD5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E73F36-F0DA-4CB0-A245-C439337E6D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940A5A-EB86-455C-9D4D-E0F7ABE30C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A2273C-A783-43F8-A665-9CE37F8D97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759CB2-E86E-41EF-A46B-46065108F7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DCABD-5686-42D6-AB6C-84E7045B575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F413B-9C6B-4E62-8E23-A60D4833558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971800" y="1981080"/>
            <a:ext cx="594360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Purchasing and Invento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05D2-A8C9-45F4-8994-1487408BF27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How to Implement Inventor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276720" y="2743200"/>
            <a:ext cx="3124080" cy="2057400"/>
          </a:xfrm>
          <a:prstGeom prst="ellipse">
            <a:avLst/>
          </a:prstGeom>
          <a:solidFill>
            <a:srgbClr val="ff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048120" y="3048120"/>
            <a:ext cx="312408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ENTOR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657600" y="1295280"/>
            <a:ext cx="2438280" cy="1219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477120" y="2133720"/>
            <a:ext cx="2209680" cy="12952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324480" y="4191120"/>
            <a:ext cx="2362320" cy="15238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33920" y="5029200"/>
            <a:ext cx="2361960" cy="137160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219320" y="4267080"/>
            <a:ext cx="2209680" cy="152424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143000" y="2057400"/>
            <a:ext cx="2133720" cy="14479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276720" y="1295280"/>
            <a:ext cx="27432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629400" y="22860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alyz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ne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4419720"/>
            <a:ext cx="2514600" cy="15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ablish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inimum stock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429000" y="5257800"/>
            <a:ext cx="25146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velop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ms and lo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62120" y="4343400"/>
            <a:ext cx="27432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ablish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ystem for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eiving, sto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" y="2057400"/>
            <a:ext cx="26668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intain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ventory system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in all storage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876920" y="2514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6172200" y="304812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172200" y="434340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876920" y="4800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3124080" y="43434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276720" y="289548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E64428-7527-4B77-BD94-72078DB6AB1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nalyze Nee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 analysis of supply and reagent needs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sting all tests in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ing all supplies needed for each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ing available information to estimate u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265A13-0B93-4844-B8CC-0B7CB782927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nalysis of Needs: Information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542880" y="1352160"/>
            <a:ext cx="8217000" cy="4578480"/>
            <a:chOff x="542880" y="1352160"/>
            <a:chExt cx="8217000" cy="4578480"/>
          </a:xfrm>
        </p:grpSpPr>
        <p:sp>
          <p:nvSpPr>
            <p:cNvPr id="279" name="_s198691"/>
            <p:cNvSpPr/>
            <p:nvPr/>
          </p:nvSpPr>
          <p:spPr>
            <a:xfrm flipH="1" flipV="1">
              <a:off x="2615400" y="3436920"/>
              <a:ext cx="1023120" cy="1908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_s198685"/>
            <p:cNvSpPr/>
            <p:nvPr/>
          </p:nvSpPr>
          <p:spPr>
            <a:xfrm>
              <a:off x="542880" y="2630880"/>
              <a:ext cx="2131200" cy="12319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torage space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br>
                <a:rPr sz="16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ditions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_s198690"/>
            <p:cNvSpPr/>
            <p:nvPr/>
          </p:nvSpPr>
          <p:spPr>
            <a:xfrm flipH="1">
              <a:off x="3392640" y="4312800"/>
              <a:ext cx="630360" cy="504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_s198672"/>
            <p:cNvSpPr/>
            <p:nvPr/>
          </p:nvSpPr>
          <p:spPr>
            <a:xfrm>
              <a:off x="1705320" y="4698360"/>
              <a:ext cx="2131200" cy="12322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rder lead time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elivery time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_s198689"/>
            <p:cNvSpPr/>
            <p:nvPr/>
          </p:nvSpPr>
          <p:spPr>
            <a:xfrm>
              <a:off x="5271840" y="4312800"/>
              <a:ext cx="634680" cy="5022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_s198670"/>
            <p:cNvSpPr/>
            <p:nvPr/>
          </p:nvSpPr>
          <p:spPr>
            <a:xfrm>
              <a:off x="5465520" y="4698360"/>
              <a:ext cx="2131200" cy="12322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riority Level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198688"/>
            <p:cNvSpPr/>
            <p:nvPr/>
          </p:nvSpPr>
          <p:spPr>
            <a:xfrm flipV="1">
              <a:off x="5657040" y="3434400"/>
              <a:ext cx="1023120" cy="1929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198667"/>
            <p:cNvSpPr/>
            <p:nvPr/>
          </p:nvSpPr>
          <p:spPr>
            <a:xfrm>
              <a:off x="6628680" y="2630880"/>
              <a:ext cx="2131200" cy="12319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Usage/month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(quantification)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198687"/>
            <p:cNvSpPr/>
            <p:nvPr/>
          </p:nvSpPr>
          <p:spPr>
            <a:xfrm flipV="1">
              <a:off x="4647600" y="2581920"/>
              <a:ext cx="0" cy="621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198665"/>
            <p:cNvSpPr/>
            <p:nvPr/>
          </p:nvSpPr>
          <p:spPr>
            <a:xfrm>
              <a:off x="3583800" y="1352160"/>
              <a:ext cx="2131200" cy="12319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Unit of count</a:t>
              </a:r>
              <a:br>
                <a:rPr sz="2100"/>
              </a:b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198662"/>
            <p:cNvSpPr/>
            <p:nvPr/>
          </p:nvSpPr>
          <p:spPr>
            <a:xfrm>
              <a:off x="3583800" y="3203640"/>
              <a:ext cx="2131200" cy="12319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Item </a:t>
              </a:r>
              <a:br>
                <a:rPr sz="3000"/>
              </a:b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descriptio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3D1F53-4345-4477-A103-5488953ED38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304920" y="533520"/>
            <a:ext cx="60195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at is Quantif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1905120"/>
            <a:ext cx="7848720" cy="3369960"/>
          </a:xfrm>
          <a:prstGeom prst="rect">
            <a:avLst/>
          </a:prstGeom>
          <a:solidFill>
            <a:srgbClr val="00007d"/>
          </a:solidFill>
          <a:ln w="0">
            <a:noFill/>
          </a:ln>
          <a:effectLst>
            <a:outerShdw dist="107932" dir="27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Quantification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 is a process for calculating how much is required of any particular item for a given period of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EC7CEB-CBD7-4F29-A246-22331A07E8A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 </a:t>
            </a:r>
            <a:r>
              <a:rPr b="1" lang="en-US" sz="3600" spc="-1" strike="noStrike">
                <a:solidFill>
                  <a:srgbClr val="e40202"/>
                </a:solidFill>
                <a:latin typeface="Verdana"/>
              </a:rPr>
              <a:t>Whe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 part of annual health care pl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en implementing a new health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 preparation for a potential or newly identified epidem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2716CF-2604-4D43-9BBB-942EE53DBBA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 </a:t>
            </a:r>
            <a:r>
              <a:rPr b="1" lang="en-US" sz="3600" spc="-1" strike="noStrike">
                <a:solidFill>
                  <a:srgbClr val="e40202"/>
                </a:solidFill>
                <a:latin typeface="Verdana"/>
              </a:rPr>
              <a:t>How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2296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sumption-based metho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rbidity-based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873C1-3C2B-47AD-AEA9-9581D1DE852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Consumption-ba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6934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ased on the actual u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take into accou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alth supplies actually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astage–expired or spoiled supp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pplies out of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tock for mor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han 15 day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during any tim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the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4191120" y="3581280"/>
          <a:ext cx="4267080" cy="286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3581280"/>
                    <a:ext cx="4267080" cy="286092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B1B03A-A4B4-491C-996D-2445BFDDA3E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Morbidity-ba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ased on the actual number of episodes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st take into accou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pulation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ease inc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uracy of morbidity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eatment guide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5486400" y="2209680"/>
          <a:ext cx="3429000" cy="403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2209680"/>
                    <a:ext cx="3429000" cy="403884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71E6D6-C7C9-4770-83F4-FE773F03F36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ventory Control: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ain recor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rece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t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ss or fail acceptance cri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laced in service or dis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be useful to kee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s in stockro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5105520" y="4038480"/>
            <a:ext cx="2361960" cy="238140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 rot="2522400">
            <a:off x="6997320" y="5011560"/>
            <a:ext cx="1600200" cy="14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BA6616-B2F3-411B-8386-0E33F9C177A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8" name="Object 2"/>
          <p:cNvGraphicFramePr/>
          <p:nvPr/>
        </p:nvGraphicFramePr>
        <p:xfrm>
          <a:off x="4572000" y="1371600"/>
          <a:ext cx="457200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371600"/>
                    <a:ext cx="45720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Stock Logbo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419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ame and sign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ate of rece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qua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ate of expi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inimum st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tock bal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Other inform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helf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3"/>
          <a:stretch/>
        </p:blipFill>
        <p:spPr>
          <a:xfrm>
            <a:off x="5029200" y="3429000"/>
            <a:ext cx="33336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141BBB-65B5-431D-B076-1546C0B4C95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the steps required to implement an inventory control progr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ame factors to consider in procurement of suppl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 monitoring plan for the inventory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importance of documentation related to purchasing and invento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B3E85-29EE-419D-8A1D-2C868DC40CF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spect new orders at time of deli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rify cont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eck integ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date each item rece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expiration 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ore new shipment behi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isting sh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eate or update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5791320" y="3657600"/>
            <a:ext cx="2381040" cy="213372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2"/>
          <a:stretch/>
        </p:blipFill>
        <p:spPr>
          <a:xfrm>
            <a:off x="6526080" y="1295280"/>
            <a:ext cx="2130480" cy="259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1B1B47-AE2D-4EAB-8F0D-DC1CBF115CC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orage of Inven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5029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tore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rganiz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ck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ll-ventila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 direct sunligh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od, sturdy shelv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tems within re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fety precautions</a:t>
            </a:r>
            <a:br>
              <a:rPr sz="28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rcRect l="10457" t="0" r="19171" b="0"/>
          <a:stretch/>
        </p:blipFill>
        <p:spPr>
          <a:xfrm>
            <a:off x="5029200" y="1219320"/>
            <a:ext cx="3692520" cy="364320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2"/>
          <a:srcRect l="0" t="31201" r="36800" b="0"/>
          <a:stretch/>
        </p:blipFill>
        <p:spPr>
          <a:xfrm>
            <a:off x="5029200" y="3657600"/>
            <a:ext cx="3689280" cy="267660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6019920" y="3962520"/>
            <a:ext cx="2133360" cy="2057400"/>
          </a:xfrm>
          <a:prstGeom prst="noSmoking">
            <a:avLst>
              <a:gd name="adj" fmla="val 12500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3"/>
          <a:stretch/>
        </p:blipFill>
        <p:spPr>
          <a:xfrm>
            <a:off x="6019920" y="1523880"/>
            <a:ext cx="1844640" cy="1933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CD1863-7540-489F-975A-B6409A070A5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Shelv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3581280" y="4724280"/>
            <a:ext cx="1946520" cy="154008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457200" y="1295280"/>
            <a:ext cx="2286000" cy="7621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4672080" cy="382572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685800" y="5334120"/>
            <a:ext cx="2971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ollow safety preca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3"/>
          <a:stretch/>
        </p:blipFill>
        <p:spPr>
          <a:xfrm>
            <a:off x="5181480" y="1447920"/>
            <a:ext cx="3013200" cy="312408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4"/>
          <a:stretch/>
        </p:blipFill>
        <p:spPr>
          <a:xfrm>
            <a:off x="7010280" y="3352680"/>
            <a:ext cx="2133720" cy="187956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685800" y="2590920"/>
            <a:ext cx="685800" cy="23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572000" y="4343400"/>
            <a:ext cx="2133720" cy="2057400"/>
          </a:xfrm>
          <a:prstGeom prst="noSmoking">
            <a:avLst>
              <a:gd name="adj" fmla="val 12500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291095-8334-41EB-87BD-36ECBA14D46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Shelf Organ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voids “losing” a produ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aves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ystemizes storage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umber cold r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r refrig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nd freezers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label shel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5562720" y="1523880"/>
            <a:ext cx="3429000" cy="288936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2"/>
          <a:srcRect l="0" t="0" r="0" b="25408"/>
          <a:stretch/>
        </p:blipFill>
        <p:spPr>
          <a:xfrm>
            <a:off x="3429000" y="4267080"/>
            <a:ext cx="3703680" cy="19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97A9A2-9783-4EBE-9234-17FC64F54D9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Use clearly visible dating lab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0010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te op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te exp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4" descr=""/>
          <p:cNvPicPr/>
          <p:nvPr/>
        </p:nvPicPr>
        <p:blipFill>
          <a:blip r:embed="rId1"/>
          <a:stretch/>
        </p:blipFill>
        <p:spPr>
          <a:xfrm>
            <a:off x="3276720" y="2743200"/>
            <a:ext cx="4343400" cy="302724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4495680" y="3657600"/>
            <a:ext cx="2743200" cy="685800"/>
          </a:xfrm>
          <a:prstGeom prst="flowChartAlternateProcess">
            <a:avLst/>
          </a:prstGeom>
          <a:noFill/>
          <a:ln w="9360">
            <a:solidFill>
              <a:srgbClr val="e4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14600" y="3581280"/>
            <a:ext cx="1981080" cy="609840"/>
          </a:xfrm>
          <a:prstGeom prst="rightArrow">
            <a:avLst>
              <a:gd name="adj1" fmla="val 50000"/>
              <a:gd name="adj2" fmla="val 81213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876920" y="3429000"/>
            <a:ext cx="22096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162920" y="3352680"/>
            <a:ext cx="1600200" cy="381240"/>
          </a:xfrm>
          <a:prstGeom prst="leftArrow">
            <a:avLst>
              <a:gd name="adj1" fmla="val 50000"/>
              <a:gd name="adj2" fmla="val 10493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EE6232-0D1F-4196-933C-1BF591EA24B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tinuous Monitoring of Inven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048120" y="1371600"/>
            <a:ext cx="3047760" cy="12952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943600" y="3276720"/>
            <a:ext cx="2743200" cy="1447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200400" y="4876920"/>
            <a:ext cx="2666880" cy="15238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838080" y="3200400"/>
            <a:ext cx="2210040" cy="15238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743200" y="1371600"/>
            <a:ext cx="3200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048120" y="525780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duct weekly physical coun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33520" y="3429000"/>
            <a:ext cx="2057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791320" y="3352680"/>
            <a:ext cx="28191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intain </a:t>
            </a:r>
            <a:br>
              <a:rPr sz="20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entory system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 all storage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666880" y="2438280"/>
            <a:ext cx="3733920" cy="2895840"/>
          </a:xfrm>
          <a:custGeom>
            <a:avLst/>
            <a:gdLst>
              <a:gd name="textAreaLeft" fmla="*/ 933480 w 3733920"/>
              <a:gd name="textAreaRight" fmla="*/ 2800440 w 3733920"/>
              <a:gd name="textAreaTop" fmla="*/ 723960 h 2895840"/>
              <a:gd name="textAreaBottom" fmla="*/ 2171880 h 289584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048120" y="3352680"/>
            <a:ext cx="2438280" cy="16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ventory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DBA4C0-03CA-4542-A0AA-6C22E98D3D0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Computerized Stock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Advantag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xact current state of stock, product class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nagement of expiration 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atistics 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planning purchase or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nagement of possible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kes inventory tasks eas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Drawback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 on-site computer is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quires trained sta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rcRect l="5000" t="2667" r="18000" b="4000"/>
          <a:stretch/>
        </p:blipFill>
        <p:spPr>
          <a:xfrm>
            <a:off x="5638680" y="3505320"/>
            <a:ext cx="2895840" cy="2631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7860DB-6423-4E1C-B32F-02960EF2C23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ell-managed laboratory will have a system for inventory maintenance and purcha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ystem will require planning and monitoring: analyzing needs, developing forms and procedures, and maintaining an inventory. The laboratory will maintain an inventory system for all reagents and supplies used in the laborat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CFF5BE-C86D-428B-9C4B-7814064DC3E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ing inventory results in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creased laboratory efficiency and effectiv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ance that patient or clinical needs are m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ducts available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BC4A2F-E34C-477D-BFDE-8D5213E0F98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866920" y="762120"/>
            <a:ext cx="304812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85800" y="762120"/>
            <a:ext cx="5181480" cy="5409720"/>
            <a:chOff x="685800" y="762120"/>
            <a:chExt cx="5181480" cy="5409720"/>
          </a:xfrm>
        </p:grpSpPr>
        <p:sp>
          <p:nvSpPr>
            <p:cNvPr id="363" name="AutoShape 4"/>
            <p:cNvSpPr/>
            <p:nvPr/>
          </p:nvSpPr>
          <p:spPr>
            <a:xfrm>
              <a:off x="685800" y="7621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9"/>
            <p:cNvSpPr/>
            <p:nvPr/>
          </p:nvSpPr>
          <p:spPr>
            <a:xfrm>
              <a:off x="2930400" y="36097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10"/>
            <p:cNvSpPr/>
            <p:nvPr/>
          </p:nvSpPr>
          <p:spPr>
            <a:xfrm>
              <a:off x="2898720" y="36014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11"/>
            <p:cNvSpPr/>
            <p:nvPr/>
          </p:nvSpPr>
          <p:spPr>
            <a:xfrm>
              <a:off x="2898720" y="36014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12"/>
            <p:cNvSpPr/>
            <p:nvPr/>
          </p:nvSpPr>
          <p:spPr>
            <a:xfrm>
              <a:off x="3160440" y="23068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13"/>
            <p:cNvSpPr/>
            <p:nvPr/>
          </p:nvSpPr>
          <p:spPr>
            <a:xfrm>
              <a:off x="3160440" y="23068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16"/>
            <p:cNvSpPr/>
            <p:nvPr/>
          </p:nvSpPr>
          <p:spPr>
            <a:xfrm>
              <a:off x="1565280" y="29678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22"/>
            <p:cNvSpPr/>
            <p:nvPr/>
          </p:nvSpPr>
          <p:spPr>
            <a:xfrm>
              <a:off x="1554120" y="29048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Line 24"/>
            <p:cNvSpPr/>
            <p:nvPr/>
          </p:nvSpPr>
          <p:spPr>
            <a:xfrm flipH="1" flipV="1">
              <a:off x="3339720" y="57686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Line 25"/>
            <p:cNvSpPr/>
            <p:nvPr/>
          </p:nvSpPr>
          <p:spPr>
            <a:xfrm flipV="1">
              <a:off x="3078000" y="45975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Line 27"/>
            <p:cNvSpPr/>
            <p:nvPr/>
          </p:nvSpPr>
          <p:spPr>
            <a:xfrm>
              <a:off x="4876560" y="14281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Line 27"/>
            <p:cNvSpPr/>
            <p:nvPr/>
          </p:nvSpPr>
          <p:spPr>
            <a:xfrm>
              <a:off x="3276360" y="15872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Line 27"/>
            <p:cNvSpPr/>
            <p:nvPr/>
          </p:nvSpPr>
          <p:spPr>
            <a:xfrm>
              <a:off x="1600200" y="16369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Line 27"/>
            <p:cNvSpPr/>
            <p:nvPr/>
          </p:nvSpPr>
          <p:spPr>
            <a:xfrm flipH="1">
              <a:off x="1294920" y="14760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7" name="Group 65"/>
            <p:cNvGrpSpPr/>
            <p:nvPr/>
          </p:nvGrpSpPr>
          <p:grpSpPr>
            <a:xfrm>
              <a:off x="990360" y="854640"/>
              <a:ext cx="1261800" cy="1189800"/>
              <a:chOff x="990360" y="854640"/>
              <a:chExt cx="1261800" cy="1189800"/>
            </a:xfrm>
          </p:grpSpPr>
          <p:grpSp>
            <p:nvGrpSpPr>
              <p:cNvPr id="378" name="Group 66"/>
              <p:cNvGrpSpPr/>
              <p:nvPr/>
            </p:nvGrpSpPr>
            <p:grpSpPr>
              <a:xfrm>
                <a:off x="990360" y="854640"/>
                <a:ext cx="1239120" cy="1189800"/>
                <a:chOff x="990360" y="854640"/>
                <a:chExt cx="1239120" cy="1189800"/>
              </a:xfrm>
            </p:grpSpPr>
            <p:grpSp>
              <p:nvGrpSpPr>
                <p:cNvPr id="379" name="Group 67"/>
                <p:cNvGrpSpPr/>
                <p:nvPr/>
              </p:nvGrpSpPr>
              <p:grpSpPr>
                <a:xfrm>
                  <a:off x="1041840" y="854640"/>
                  <a:ext cx="1152360" cy="1189800"/>
                  <a:chOff x="1041840" y="854640"/>
                  <a:chExt cx="1152360" cy="1189800"/>
                </a:xfrm>
              </p:grpSpPr>
              <p:sp>
                <p:nvSpPr>
                  <p:cNvPr id="380" name="Freeform 68"/>
                  <p:cNvSpPr/>
                  <p:nvPr/>
                </p:nvSpPr>
                <p:spPr>
                  <a:xfrm>
                    <a:off x="1041840" y="8546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" name="Freeform 69"/>
                  <p:cNvSpPr/>
                  <p:nvPr/>
                </p:nvSpPr>
                <p:spPr>
                  <a:xfrm>
                    <a:off x="1041840" y="8546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2" name="Text Box 70"/>
                <p:cNvSpPr/>
                <p:nvPr/>
              </p:nvSpPr>
              <p:spPr>
                <a:xfrm>
                  <a:off x="990360" y="11289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3" name="Text Box 71"/>
              <p:cNvSpPr/>
              <p:nvPr/>
            </p:nvSpPr>
            <p:spPr>
              <a:xfrm>
                <a:off x="1013040" y="12765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4" name="Group 72"/>
            <p:cNvGrpSpPr/>
            <p:nvPr/>
          </p:nvGrpSpPr>
          <p:grpSpPr>
            <a:xfrm>
              <a:off x="2646360" y="854640"/>
              <a:ext cx="1239840" cy="1189800"/>
              <a:chOff x="2646360" y="854640"/>
              <a:chExt cx="1239840" cy="1189800"/>
            </a:xfrm>
          </p:grpSpPr>
          <p:sp>
            <p:nvSpPr>
              <p:cNvPr id="385" name="Freeform 73"/>
              <p:cNvSpPr/>
              <p:nvPr/>
            </p:nvSpPr>
            <p:spPr>
              <a:xfrm>
                <a:off x="2687040" y="8546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Text Box 74"/>
              <p:cNvSpPr/>
              <p:nvPr/>
            </p:nvSpPr>
            <p:spPr>
              <a:xfrm>
                <a:off x="2646360" y="12765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7" name="Group 75"/>
            <p:cNvGrpSpPr/>
            <p:nvPr/>
          </p:nvGrpSpPr>
          <p:grpSpPr>
            <a:xfrm>
              <a:off x="4246560" y="854640"/>
              <a:ext cx="1239840" cy="1189800"/>
              <a:chOff x="4246560" y="854640"/>
              <a:chExt cx="1239840" cy="1189800"/>
            </a:xfrm>
          </p:grpSpPr>
          <p:grpSp>
            <p:nvGrpSpPr>
              <p:cNvPr id="388" name="Group 76"/>
              <p:cNvGrpSpPr/>
              <p:nvPr/>
            </p:nvGrpSpPr>
            <p:grpSpPr>
              <a:xfrm>
                <a:off x="4291920" y="854640"/>
                <a:ext cx="1153080" cy="1189800"/>
                <a:chOff x="4291920" y="854640"/>
                <a:chExt cx="1153080" cy="1189800"/>
              </a:xfrm>
            </p:grpSpPr>
            <p:sp>
              <p:nvSpPr>
                <p:cNvPr id="389" name="Freeform 77"/>
                <p:cNvSpPr/>
                <p:nvPr/>
              </p:nvSpPr>
              <p:spPr>
                <a:xfrm>
                  <a:off x="4291920" y="8546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Freeform 78"/>
                <p:cNvSpPr/>
                <p:nvPr/>
              </p:nvSpPr>
              <p:spPr>
                <a:xfrm>
                  <a:off x="4291920" y="8546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1" name="Text Box 79"/>
              <p:cNvSpPr/>
              <p:nvPr/>
            </p:nvSpPr>
            <p:spPr>
              <a:xfrm>
                <a:off x="4246560" y="12808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2" name="Line 27"/>
            <p:cNvSpPr/>
            <p:nvPr/>
          </p:nvSpPr>
          <p:spPr>
            <a:xfrm flipH="1">
              <a:off x="1371240" y="28288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3" name=""/>
            <p:cNvGrpSpPr/>
            <p:nvPr/>
          </p:nvGrpSpPr>
          <p:grpSpPr>
            <a:xfrm>
              <a:off x="990360" y="2194200"/>
              <a:ext cx="1241280" cy="1189440"/>
              <a:chOff x="990360" y="2194200"/>
              <a:chExt cx="1241280" cy="1189440"/>
            </a:xfrm>
          </p:grpSpPr>
          <p:sp>
            <p:nvSpPr>
              <p:cNvPr id="394" name="Freeform 46"/>
              <p:cNvSpPr/>
              <p:nvPr/>
            </p:nvSpPr>
            <p:spPr>
              <a:xfrm>
                <a:off x="995040" y="21942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Text Box 47"/>
              <p:cNvSpPr/>
              <p:nvPr/>
            </p:nvSpPr>
            <p:spPr>
              <a:xfrm>
                <a:off x="990360" y="24807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6" name="Freeform 31"/>
            <p:cNvSpPr/>
            <p:nvPr/>
          </p:nvSpPr>
          <p:spPr>
            <a:xfrm>
              <a:off x="2695320" y="22568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 Box 43"/>
            <p:cNvSpPr/>
            <p:nvPr/>
          </p:nvSpPr>
          <p:spPr>
            <a:xfrm>
              <a:off x="2735280" y="22734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8" name=""/>
            <p:cNvGrpSpPr/>
            <p:nvPr/>
          </p:nvGrpSpPr>
          <p:grpSpPr>
            <a:xfrm>
              <a:off x="4190760" y="2212200"/>
              <a:ext cx="1336680" cy="1189440"/>
              <a:chOff x="4190760" y="2212200"/>
              <a:chExt cx="1336680" cy="1189440"/>
            </a:xfrm>
          </p:grpSpPr>
          <p:sp>
            <p:nvSpPr>
              <p:cNvPr id="399" name="Freeform 48"/>
              <p:cNvSpPr/>
              <p:nvPr/>
            </p:nvSpPr>
            <p:spPr>
              <a:xfrm>
                <a:off x="4267080" y="22122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Text Box 55"/>
              <p:cNvSpPr/>
              <p:nvPr/>
            </p:nvSpPr>
            <p:spPr>
              <a:xfrm>
                <a:off x="4190760" y="25120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1" name="Line 27"/>
            <p:cNvSpPr/>
            <p:nvPr/>
          </p:nvSpPr>
          <p:spPr>
            <a:xfrm flipH="1">
              <a:off x="1294920" y="4103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2" name=""/>
            <p:cNvGrpSpPr/>
            <p:nvPr/>
          </p:nvGrpSpPr>
          <p:grpSpPr>
            <a:xfrm>
              <a:off x="990360" y="3553200"/>
              <a:ext cx="1239840" cy="1190880"/>
              <a:chOff x="990360" y="3553200"/>
              <a:chExt cx="1239840" cy="1190880"/>
            </a:xfrm>
          </p:grpSpPr>
          <p:sp>
            <p:nvSpPr>
              <p:cNvPr id="403" name="Freeform 81"/>
              <p:cNvSpPr/>
              <p:nvPr/>
            </p:nvSpPr>
            <p:spPr>
              <a:xfrm>
                <a:off x="1022400" y="35532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Text Box 82"/>
              <p:cNvSpPr/>
              <p:nvPr/>
            </p:nvSpPr>
            <p:spPr>
              <a:xfrm>
                <a:off x="990360" y="37850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5" name=""/>
            <p:cNvGrpSpPr/>
            <p:nvPr/>
          </p:nvGrpSpPr>
          <p:grpSpPr>
            <a:xfrm>
              <a:off x="2646360" y="3553200"/>
              <a:ext cx="1239840" cy="1190880"/>
              <a:chOff x="2646360" y="3553200"/>
              <a:chExt cx="1239840" cy="1190880"/>
            </a:xfrm>
          </p:grpSpPr>
          <p:sp>
            <p:nvSpPr>
              <p:cNvPr id="406" name="Freeform 30"/>
              <p:cNvSpPr/>
              <p:nvPr/>
            </p:nvSpPr>
            <p:spPr>
              <a:xfrm>
                <a:off x="2673360" y="35532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Text Box 54"/>
              <p:cNvSpPr/>
              <p:nvPr/>
            </p:nvSpPr>
            <p:spPr>
              <a:xfrm>
                <a:off x="2646360" y="38034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8" name="Freeform 50"/>
            <p:cNvSpPr/>
            <p:nvPr/>
          </p:nvSpPr>
          <p:spPr>
            <a:xfrm>
              <a:off x="4267080" y="35463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Text Box 51"/>
            <p:cNvSpPr/>
            <p:nvPr/>
          </p:nvSpPr>
          <p:spPr>
            <a:xfrm>
              <a:off x="4246560" y="36262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7"/>
            <p:cNvSpPr/>
            <p:nvPr/>
          </p:nvSpPr>
          <p:spPr>
            <a:xfrm flipH="1">
              <a:off x="1371240" y="54543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1" name=""/>
            <p:cNvGrpSpPr/>
            <p:nvPr/>
          </p:nvGrpSpPr>
          <p:grpSpPr>
            <a:xfrm>
              <a:off x="914400" y="4902120"/>
              <a:ext cx="1420560" cy="1189440"/>
              <a:chOff x="914400" y="4902120"/>
              <a:chExt cx="1420560" cy="1189440"/>
            </a:xfrm>
          </p:grpSpPr>
          <p:sp>
            <p:nvSpPr>
              <p:cNvPr id="412" name="Freeform 57"/>
              <p:cNvSpPr/>
              <p:nvPr/>
            </p:nvSpPr>
            <p:spPr>
              <a:xfrm>
                <a:off x="1063440" y="49021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Text Box 58"/>
              <p:cNvSpPr/>
              <p:nvPr/>
            </p:nvSpPr>
            <p:spPr>
              <a:xfrm>
                <a:off x="914400" y="51372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4" name=""/>
            <p:cNvGrpSpPr/>
            <p:nvPr/>
          </p:nvGrpSpPr>
          <p:grpSpPr>
            <a:xfrm>
              <a:off x="2646360" y="4834080"/>
              <a:ext cx="1239840" cy="1189800"/>
              <a:chOff x="2646360" y="4834080"/>
              <a:chExt cx="1239840" cy="1189800"/>
            </a:xfrm>
          </p:grpSpPr>
          <p:sp>
            <p:nvSpPr>
              <p:cNvPr id="415" name="Freeform 34"/>
              <p:cNvSpPr/>
              <p:nvPr/>
            </p:nvSpPr>
            <p:spPr>
              <a:xfrm>
                <a:off x="2695320" y="48340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Text Box 61"/>
              <p:cNvSpPr/>
              <p:nvPr/>
            </p:nvSpPr>
            <p:spPr>
              <a:xfrm>
                <a:off x="2646360" y="51372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4267080" y="4902120"/>
              <a:ext cx="1239840" cy="1189440"/>
              <a:chOff x="4267080" y="4902120"/>
              <a:chExt cx="1239840" cy="1189440"/>
            </a:xfrm>
          </p:grpSpPr>
          <p:sp>
            <p:nvSpPr>
              <p:cNvPr id="418" name="Freeform 63"/>
              <p:cNvSpPr/>
              <p:nvPr/>
            </p:nvSpPr>
            <p:spPr>
              <a:xfrm>
                <a:off x="4286160" y="49021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Text Box 64"/>
              <p:cNvSpPr/>
              <p:nvPr/>
            </p:nvSpPr>
            <p:spPr>
              <a:xfrm>
                <a:off x="4267080" y="51372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C207D8-E010-497B-9C0B-013AA0BE913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Your laboratory is asked to gear up for a potential flu epidemic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purchasing and inventory factors do you need to consider in planning fo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s proces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2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problems might you encounter in planning and implementatio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AE644A-C20B-4D0A-8C1F-4E3586B7172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040" y="45720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35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50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51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52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5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57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 Box 74"/>
              <p:cNvSpPr/>
              <p:nvPr/>
            </p:nvSpPr>
            <p:spPr>
              <a:xfrm>
                <a:off x="4094280" y="15051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60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61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66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71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75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78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0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84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87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90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69F854-1BA0-4FF7-86FC-50AFE91F154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685800" y="609480"/>
            <a:ext cx="7696080" cy="1828800"/>
          </a:xfrm>
          <a:prstGeom prst="flowChartAlternateProcess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Benefits of an 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Inventory Management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04920" y="2895480"/>
            <a:ext cx="3124080" cy="30481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867280" y="3048120"/>
            <a:ext cx="3048120" cy="2666880"/>
          </a:xfrm>
          <a:prstGeom prst="flowChart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09480" y="3352680"/>
            <a:ext cx="2438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pplies and reagents always  avai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3200400"/>
            <a:ext cx="26668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nimize wastage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y within bu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6400800" y="4343400"/>
            <a:ext cx="2152800" cy="138096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3200400" y="3200400"/>
            <a:ext cx="2895480" cy="2971800"/>
          </a:xfrm>
          <a:custGeom>
            <a:avLst/>
            <a:gdLst>
              <a:gd name="textAreaLeft" fmla="*/ 660960 w 2895480"/>
              <a:gd name="textAreaRight" fmla="*/ 2234520 w 2895480"/>
              <a:gd name="textAreaTop" fmla="*/ 678240 h 2971800"/>
              <a:gd name="textAreaBottom" fmla="*/ 2293560 h 2971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100000">
                <a:srgbClr val="ffd91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505320" y="4038480"/>
            <a:ext cx="21333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maint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rcRect l="36735" t="28750" r="27152" b="59634"/>
          <a:stretch/>
        </p:blipFill>
        <p:spPr>
          <a:xfrm rot="21264600">
            <a:off x="761760" y="4343400"/>
            <a:ext cx="2295360" cy="110664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 flipH="1">
            <a:off x="2590560" y="2438280"/>
            <a:ext cx="53316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572000" y="24382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95880" y="2438280"/>
            <a:ext cx="60984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365709-247E-4AC8-95B7-DA3F71706CB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Inventory Management Challen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Balance between stock availability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nd expiration dates.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Life-span of laboratory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agents var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IA reagents: 3 to 8 wee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PI kits: 4 to 12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tisera: 1 to 4 yea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tibiotic disks: 2 to 3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ady-to-use culture media: 1 to 2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hydrated culture media: 3 to 5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4724280" y="1828800"/>
            <a:ext cx="3886200" cy="327348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5257800" y="3124080"/>
            <a:ext cx="838080" cy="642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-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391520" y="2895480"/>
            <a:ext cx="914400" cy="9169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piry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DAE1AA-F51D-4923-9AD3-51CFF01772F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Key Components for Purchasing and Inven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419720" y="2362320"/>
            <a:ext cx="1752480" cy="1371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Ins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Hand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162920" y="3809880"/>
            <a:ext cx="1828800" cy="1752840"/>
          </a:xfrm>
          <a:prstGeom prst="rect">
            <a:avLst/>
          </a:prstGeom>
          <a:solidFill>
            <a:srgbClr val="00007d"/>
          </a:solidFill>
          <a:ln w="57240">
            <a:solidFill>
              <a:srgbClr val="a1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Log bo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xpiry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Rotate st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438280" y="4572000"/>
            <a:ext cx="2057400" cy="1143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Laborato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562720" y="4267080"/>
            <a:ext cx="1066680" cy="1295640"/>
          </a:xfrm>
          <a:prstGeom prst="rect">
            <a:avLst/>
          </a:prstGeom>
          <a:solidFill>
            <a:srgbClr val="a1761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62120" y="5105520"/>
            <a:ext cx="1295280" cy="9144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380880" y="1828800"/>
            <a:ext cx="3504600" cy="2458080"/>
            <a:chOff x="380880" y="1828800"/>
            <a:chExt cx="3504600" cy="2458080"/>
          </a:xfrm>
        </p:grpSpPr>
        <p:cxnSp>
          <p:nvCxnSpPr>
            <p:cNvPr id="216" name="_s180244"/>
            <p:cNvCxnSpPr>
              <a:stCxn id="217" idx="1"/>
              <a:endCxn id="218" idx="2"/>
            </p:cNvCxnSpPr>
            <p:nvPr/>
          </p:nvCxnSpPr>
          <p:spPr>
            <a:xfrm rot="10800000">
              <a:off x="2132640" y="2811240"/>
              <a:ext cx="250920" cy="98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9" name="_s180243"/>
            <p:cNvCxnSpPr>
              <a:stCxn id="220" idx="3"/>
              <a:endCxn id="218" idx="2"/>
            </p:cNvCxnSpPr>
            <p:nvPr/>
          </p:nvCxnSpPr>
          <p:spPr>
            <a:xfrm flipV="1">
              <a:off x="1882440" y="2811240"/>
              <a:ext cx="250920" cy="98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8" name="_s180239"/>
            <p:cNvSpPr/>
            <p:nvPr/>
          </p:nvSpPr>
          <p:spPr>
            <a:xfrm>
              <a:off x="1382040" y="182880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SzPct val="13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Vendor 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ualificat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180240"/>
            <p:cNvSpPr/>
            <p:nvPr/>
          </p:nvSpPr>
          <p:spPr>
            <a:xfrm>
              <a:off x="380880" y="330372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urchase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trac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180241"/>
            <p:cNvSpPr/>
            <p:nvPr/>
          </p:nvSpPr>
          <p:spPr>
            <a:xfrm>
              <a:off x="2383560" y="330372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elive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5486400" y="5715000"/>
            <a:ext cx="1676520" cy="762120"/>
          </a:xfrm>
          <a:prstGeom prst="octagon">
            <a:avLst>
              <a:gd name="adj" fmla="val 2928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Post use</a:t>
            </a:r>
            <a:br>
              <a:rPr sz="1800"/>
            </a:b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tra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419720" y="3733920"/>
            <a:ext cx="609480" cy="9144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1828440" y="4952880"/>
            <a:ext cx="609480" cy="381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124080" y="4267080"/>
            <a:ext cx="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6858000" y="5562720"/>
            <a:ext cx="380880" cy="304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7162920" y="5562720"/>
            <a:ext cx="38088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172200" y="5486400"/>
            <a:ext cx="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077320" y="335268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6629400" y="3352680"/>
            <a:ext cx="457200" cy="838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172200" y="2438280"/>
            <a:ext cx="8380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010280" y="1752480"/>
            <a:ext cx="1981440" cy="16837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to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Assess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5638680" y="4114800"/>
            <a:ext cx="949320" cy="13716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81480" y="4572000"/>
            <a:ext cx="14479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1981080" y="5562720"/>
            <a:ext cx="45720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A398E5-6519-4368-8890-46CE5FFCDF4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tablish a System to Qualify and Select Vend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fine criteria for supplies and services to be purch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 information from other labora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valuate before purchase and after recei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77EE33-D604-4EC2-A61B-02006A44F59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rchasing Consider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429000" y="4267080"/>
            <a:ext cx="1981080" cy="1676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ermin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yment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chanis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562720" y="3733920"/>
            <a:ext cx="3352680" cy="2743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457200" y="1143000"/>
            <a:ext cx="5409720" cy="2941920"/>
            <a:chOff x="457200" y="1143000"/>
            <a:chExt cx="5409720" cy="2941920"/>
          </a:xfrm>
        </p:grpSpPr>
        <p:cxnSp>
          <p:nvCxnSpPr>
            <p:cNvPr id="241" name="_s182282"/>
            <p:cNvCxnSpPr/>
            <p:nvPr/>
          </p:nvCxnSpPr>
          <p:spPr>
            <a:xfrm rot="10800000">
              <a:off x="3198960" y="2272680"/>
              <a:ext cx="387000" cy="1193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2" name="_s182283"/>
            <p:cNvCxnSpPr/>
            <p:nvPr/>
          </p:nvCxnSpPr>
          <p:spPr>
            <a:xfrm flipV="1">
              <a:off x="2818440" y="2665080"/>
              <a:ext cx="387000" cy="1185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43" name="_s182284"/>
            <p:cNvSpPr/>
            <p:nvPr/>
          </p:nvSpPr>
          <p:spPr>
            <a:xfrm>
              <a:off x="457200" y="1143000"/>
              <a:ext cx="540972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SzPct val="13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_s182285"/>
            <p:cNvSpPr/>
            <p:nvPr/>
          </p:nvSpPr>
          <p:spPr>
            <a:xfrm>
              <a:off x="531720" y="2896560"/>
              <a:ext cx="232128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ffcc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Negotiate pri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_s182286"/>
            <p:cNvSpPr/>
            <p:nvPr/>
          </p:nvSpPr>
          <p:spPr>
            <a:xfrm>
              <a:off x="3505320" y="2665440"/>
              <a:ext cx="231840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ffcc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Review </a:t>
              </a:r>
              <a:br>
                <a:rPr sz="2000"/>
              </a:b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Contrac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5334120" y="3581280"/>
            <a:ext cx="99036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419720" y="3809880"/>
            <a:ext cx="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85800" y="1219320"/>
            <a:ext cx="47941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Understand government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438280" y="4114800"/>
            <a:ext cx="99072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304920" y="3809880"/>
            <a:ext cx="1992240" cy="22860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5562720" y="2362320"/>
            <a:ext cx="1218960" cy="11286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6400800" y="4724280"/>
            <a:ext cx="1676520" cy="167652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5638680" y="3886200"/>
            <a:ext cx="312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ure reliabl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ailability, deli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80F3F-6D79-47BB-86BB-EB910972B08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5:33Z</dcterms:modified>
  <cp:revision>109</cp:revision>
  <dc:subject/>
  <dc:title>Slide 1</dc:title>
</cp:coreProperties>
</file>